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130-610A-4E9C-8230-7B8396D6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C7D-D009-4C6E-9219-8EA8A7BE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97C59-8B30-4883-A77C-79B08E85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D428E-4508-4076-A3FD-63EA1746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03226-529E-4613-AA7A-0D1987CD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4B3CC-3C62-4755-8730-57C0F943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6A3B9-AB41-4DD9-B91C-72A25F29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C688B-325C-467F-AEB0-DE71E90C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FA63E-58A1-4C8D-A517-36152B16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6E6AE-7DD2-499F-97CB-2CE233C4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17209-B856-4DCC-AD46-93BCD01D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80697-C64A-420F-8A0C-690727D5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EC3-1EB0-436E-997E-F6B6863B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ABB7D-E05D-472B-B016-3989C3F2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1D870-8EA5-41B1-8E95-8E24C30B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97F4E-8721-4AF8-99B7-0AEC7B4A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C069E-5936-48B3-B747-3524EED7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EF066-7072-4D1F-B1F2-B0009E5C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4C446-F465-4736-8A47-D8D6F803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0FEC5-87DD-47A6-8CC5-CB44B888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012C0-C97B-4E01-A762-BED94E80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5589D-B3A3-44ED-86F1-7E811391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3577F-0077-4BC2-8FE2-DC311316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56F-C14F-440F-BC52-9EEB7D07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30490-806A-45D3-90CD-223AAAE5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7A40A-866E-4FC0-B90D-A810E2C8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C49E9-0C89-403C-9FF2-37BD28DB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64E76-D6F7-41CB-9585-34DFB59A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17CCF-F795-4955-B9F3-244A4BDE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AEF1A-AC28-4012-BC77-D4B633D6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C7981-7D7E-4731-9370-D75D8313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18B67-DD86-468B-9FB1-EA46123F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734A9-5912-45D0-B69F-9CD3BD65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CBF72-1288-4F19-9872-BEDB13F7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43BF-9B79-4524-AAE6-E1126897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53EF8-C954-4653-B8B0-414128AD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2E2C1-F118-49EE-80A2-232ECCFB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E375A-8570-4790-8099-E1408EF7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F17BC-0522-4A3A-8B3F-41563ACD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54606-DB2A-4CB0-8EA5-3F24175C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6930B-B2CE-40AB-8FEB-9F1BE16C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32670-9F14-448B-A059-BA8D62A4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4AFA0-940D-4650-AA76-F9603D9E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84E0B-BDAF-412D-930C-6FCE2C3F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4CB1C-FE99-4448-8663-6E2A846A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99FC-BD24-4019-BAF2-8727DAFA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94313-5FB3-46E0-A47F-6E0F07A3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6F2F4-E971-4601-92ED-607004A7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449B5-F350-4FCE-B13B-8D6EFA2A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B13F8-BC17-42D1-AF6C-A8BF6135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2F68E-5D84-46F3-A712-73CDDFCF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9DD9-6211-4BFC-BB97-023A4382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24DD-DF06-4E3F-8F06-4F13B0AF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AB34-552D-4600-979A-47AB63EA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208E-9B1B-4B7A-9466-39744C5B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02D3-E6C9-4143-B9CE-B305DBC4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7AA-93D9-40BB-B653-A7DAE738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2AEC-8B68-49A7-BAF2-C6A83DC8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EB5E-629A-4061-BDD3-CDBAFC9D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6BF0-605D-46BE-8C4F-235F348F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87E1-F542-4DFF-AFF0-36985F85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F389-6190-47ED-97A4-4D489FCC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1838-3DD9-4721-9360-BC145E72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9F26-188A-4B68-93E8-6D2CDAD8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65E76-6F1B-463D-BECF-E60A9ACA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57CB-3B53-400F-B2F3-D76FE757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056A-A34F-4A82-8AC6-60C3428D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3EB-3D66-415E-8224-6FE0ABC1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C343-214A-4866-BC2A-C39DB443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694B-7298-4A85-993E-8FB84F6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5B7B-EEEF-4FD7-BF56-57F8716A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9CD54-4696-4EF7-B17D-E0069C96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9287E-03D6-48F7-A66F-A2DA6E5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F077-B0FD-4FE3-A041-D16C618D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6821-293C-4671-9718-5AA07E93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87A76-4423-406F-A545-931546C0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F00F-9878-4A13-AFAD-D9B80244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E1917-30FD-4380-A998-03D12A03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A48-8F6B-46AA-8A65-0B22122A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B9B3F-7A5C-4A1E-92DF-8A9F02F7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56991-A5E4-4AB7-97C5-E70F854A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2BD8F-A006-4F79-A10D-826BF733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79072-68F0-437A-A156-F9628D2D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82F83-B60C-4A3F-B41E-2BD23E50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4371-B10B-4C84-B703-7640D8A9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C8893-9A8E-4773-99D4-C1A4199F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E3974-668B-4ABF-AE3F-3A407843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2B3C0-F16C-4E46-A4BE-6735A4C9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C54CA-E1F8-48CD-BBA6-E12682BA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1F1-9EA3-4432-A758-F13FC91C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4604A-3356-4276-9462-B5B25807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45037-C630-466B-A622-AABE3F0F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D3FF-A833-4963-8C1A-B9E865E4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CEDC2-6F83-4115-A9AA-193EAED3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22586-03A7-4EF3-96D1-6C1E79F8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18799-3A74-4840-87B2-1F185CF4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4365F-9003-428E-BCA0-24E1E38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3A03E-5D08-4C53-B48A-E4DBBE14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0054E-DBF6-45AA-A0C2-1F8009B0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C3E1B-72B4-4691-92CC-7477351C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CEA-EA23-4ACB-B589-90838712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26831-67E8-45A7-8E64-7B89266C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2C503-E168-4D27-87F1-7516DC54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F9373-8828-4F34-9E7B-D3A3463C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78184-C0DE-45AF-9DA4-D40964DE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3C542-AE12-47FB-9148-7A5DD2E4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E948E-B715-49D2-8FCC-41D5DDD3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F5FA2-CCCF-4E96-BA50-9C0836BB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8DC8E-267B-4B63-92B6-94605403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58B52-646E-478B-99BE-52D87180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19648-8B88-4FBC-97C7-C8089FA5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9AF-6679-437F-AADB-7C24D150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777D2-DB64-47A3-B7F8-ED0A06B3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5086B-C33B-4364-B38B-92759E57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D8EC8-2869-487A-B5B4-C3CB89B8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98F3A-FCF7-4012-9485-8C12AB13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06922-955D-41B5-BAC7-BBE9CB39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6BCF0-5C18-4972-987E-12875A3C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433DA-1B91-4535-BFC4-5186D530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D720B-FA7C-49A9-9E7E-C92636C4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2A5A6-53E8-4CDD-B6DA-5011E25C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2DB31-0F63-4769-82A3-72DB2B21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431-C4D7-419D-9726-C3A81D03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9B9C3-0A33-4395-BC42-7C77A6AB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259D7-03A4-41D4-9E9C-8AD094E2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BB2A1-8B18-43D9-8AD3-E8135AB2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09D05-8BD5-45D8-B67D-A9D9B472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E66D0-92A1-407D-932A-A8F37A83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5E23C-B0F8-46B8-B24B-067D5DA1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FEC96-5331-4B4D-AF8A-179598C6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FF9D0-02A0-41E8-B1AF-27821F6E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3F846-4909-483C-83E7-ACD360D2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75C71-16E7-4CBE-A834-CC4BFE0E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693-1DE8-4C91-8567-032C8B3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64F77-7C83-4EB2-868D-2E9C60A9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F19AE-10A2-4B8D-9A06-784651E3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9737B-E25F-41C7-AD3D-67D81802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C1E16-312A-4DCC-B32F-E6E2BFD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C0E8E-F1AB-46F9-BACC-C59D50BF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F678F-C782-48A2-93E8-9E8CF45E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6A0FB-C047-4797-B181-DCBB9402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C5AC8-79E4-4976-87B6-75FDF4A9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E0AD9-5996-492C-B0B0-3DE536E4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77A01-0427-4070-B031-7B88A0BD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AC98-C4E7-47C2-A36A-68A475D2C5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FEEF-7F0A-4643-A677-536B6CBAB3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9A50-E6E4-424B-AF62-37595E57ED9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1447-55C0-4F0F-AF48-2407FA5B46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CFAC-4648-4F8A-9782-7986986F55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5E6C-95EF-48A3-A771-5C8EA31AAA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2B05-C6BC-4468-9E88-E7F69F6409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8EE5-61C7-41BE-89C4-159A97D64A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2E58-25BC-495B-80A9-117B9ED6952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3A50-F789-4DE0-83FC-0719B60636E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7333-95D7-4FEB-902E-C781C6E5C37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B468-36EC-4908-ADE0-4C46FFD252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300 Náš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, Pane sobo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Bože, Pane sobo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ždy plný lásky, dobroty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uj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našich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labých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prosie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hlas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40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ar svojej lásky roznieť v 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a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prítomnos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ná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voj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zjav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s k sebe tiahni, zlého zba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naše vrúcne piesne chvá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 ob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prijmi,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 Kr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u svätiť sobotu nás uč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od tej večnej neodlúč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keď</a:t>
            </a:r>
            <a:r>
              <a:rPr b="1" lang="sk-SK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verným</a:t>
            </a:r>
            <a:r>
              <a:rPr b="1" lang="sk-SK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dáš</a:t>
            </a:r>
            <a:r>
              <a:rPr b="1" lang="sk-SK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tvár</a:t>
            </a:r>
            <a:r>
              <a:rPr b="1" lang="sk-SK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vo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ju</a:t>
            </a:r>
            <a:r>
              <a:rPr b="1" lang="sk-SK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zrieť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6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lasť novú v sláve uvid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íď skoro už, deň túž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radostnej tej preme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splní naše nádeje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strasti na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y odve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50:11Z</dcterms:modified>
  <cp:revision>24</cp:revision>
  <dc:subject/>
  <dc:title>Je veľký náš Pán, on slávy je Kráľ Nech do všetkých strán  spev vrúcnych znie chvál.</dc:title>
</cp:coreProperties>
</file>